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DB71-53D9-46D9-AB21-A06DC66F9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0520-1A69-422E-AB24-27FFF2DF3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0DB6-9A3A-4D71-A665-7BA33CF0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E48-F5AF-4FBD-A0F9-7F80388E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1BC5-F5FA-4290-98CD-86566FB7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3BE-E3CA-4297-BF6D-8F16D71B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F8ED-90CD-4299-8111-891AB857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C8E-C6EF-41D3-9E4A-ED1D971A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FEE-FACB-4204-A673-393A6B27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5C76-7DD1-4085-8A47-4AA9CCFD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12A1-AC56-4356-9EA7-C3B8431B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251A-70EB-4DAA-88AC-EF3B639E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9343-9BF1-4B68-B13E-65CEEB17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171-5612-4A08-9338-6AB8ACBE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86FC-626A-42FE-B2B8-E85843D4B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rela Gu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llamo Mirela. Yo tengo catorce años. Yo soy dulce, amigable y cuidado . Yo vivo en Queens. Yo tengo dos herman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. ¿Qué haces?                                                                 Natal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 y tú.                                                                                Tasha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13240"/>
            <a:ext cx="650880" cy="950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amiga!  ¿Cómo estás?                                                            Natalie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819520" y="4495680"/>
            <a:ext cx="373356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ada ¿y tú?                                                                              Tas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atal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smo. Yo eres muy tip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cias.  yo quiero vivir parís.                                                                 Tas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hace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4:26:16Z</dcterms:created>
  <dc:creator>FriscoISD</dc:creator>
  <dc:description/>
  <dc:language>en-US</dc:language>
  <cp:lastModifiedBy>NYCDOE</cp:lastModifiedBy>
  <dcterms:modified xsi:type="dcterms:W3CDTF">2012-12-07T14:58:09Z</dcterms:modified>
  <cp:revision>109</cp:revision>
  <dc:subject/>
  <dc:title>Profile</dc:title>
</cp:coreProperties>
</file>